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D64-4D88-44B4-8BAD-2423C7E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11A-0F3D-4FD1-9627-20191BD2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C38-E04D-43A7-B89D-4CE90E08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03F-4908-49F6-908E-59B30215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3BF-4A9D-4817-93A0-324D30E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980-B94B-4E0A-AF57-F612649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5F6-AA72-41A8-AB28-06821F8F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4F9-EF48-4D5C-AD32-B54B09A7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7F0-E9C5-438E-B83F-4ECFEB1D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22B-31A2-44A5-A41C-839BC94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393-BA49-4BD7-9FC5-52D2502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D6F-65A8-4F00-8D20-EAF268B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5499-B18E-4634-B6FD-EF6FFAC43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pplepiehouse.com/blog/uploaded_images/cinderella-773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had beautiful hair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有美丽的头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beautiful face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美丽的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sto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Documents and Settings\lsabey\Local Settings\Temporary Internet Files\Content.IE5\XSJY32GK\MCj02323320000[1].wmf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492732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dragon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48276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ons were her friend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龙是她的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5029200" y="1600200"/>
            <a:ext cx="2967120" cy="383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disneydreamer.com/enchanted7.jpg"/>
          <p:cNvPicPr/>
          <p:nvPr/>
        </p:nvPicPr>
        <p:blipFill>
          <a:blip r:embed="rId2"/>
          <a:stretch/>
        </p:blipFill>
        <p:spPr>
          <a:xfrm>
            <a:off x="990720" y="266688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o sew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缝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lsabey\Local Settings\Temporary Internet Files\Content.IE5\FGJUL90C\MPj04392490000[1].jpg"/>
          <p:cNvPicPr/>
          <p:nvPr/>
        </p:nvPicPr>
        <p:blipFill>
          <a:blip r:embed="rId1"/>
          <a:stretch/>
        </p:blipFill>
        <p:spPr>
          <a:xfrm>
            <a:off x="1143000" y="236232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latimesblogs.latimes.com/extendedplay/images/2007/10/31/enchanted_amy_adams_300.jpg"/>
          <p:cNvPicPr/>
          <p:nvPr/>
        </p:nvPicPr>
        <p:blipFill>
          <a:blip r:embed="rId2"/>
          <a:stretch/>
        </p:blipFill>
        <p:spPr>
          <a:xfrm>
            <a:off x="4191120" y="1523880"/>
            <a:ext cx="4076640" cy="407700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295280" y="2133720"/>
            <a:ext cx="6724800" cy="4467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wo me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爱两个男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could sin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会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blogs.kpbs.org/blogs2/images/uploads/Enchanted-2.jpg"/>
          <p:cNvPicPr/>
          <p:nvPr/>
        </p:nvPicPr>
        <p:blipFill>
          <a:blip r:embed="rId1"/>
          <a:stretch/>
        </p:blipFill>
        <p:spPr>
          <a:xfrm>
            <a:off x="1481040" y="1676520"/>
            <a:ext cx="5796000" cy="384804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she felt happy with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令她幸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webwombat.com.au/entertainment/movies/images/enchan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4735440"/>
          </a:xfrm>
          <a:prstGeom prst="rect">
            <a:avLst/>
          </a:prstGeom>
          <a:ln w="0">
            <a:noFill/>
          </a:ln>
        </p:spPr>
      </p:pic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447920" y="1477800"/>
            <a:ext cx="6400800" cy="5123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a problem.  What should she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那是一个问题。她该怎么做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fortnet.org/tfc/Pictures/tangoOutline.gif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dance.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跳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you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你会怎么做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Documents and Settings\lsabey\Local Settings\Temporary Internet Files\Content.IE5\XSJY32GK\MCj04344110000[1].wmf"/>
          <p:cNvPicPr/>
          <p:nvPr/>
        </p:nvPicPr>
        <p:blipFill>
          <a:blip r:embed="rId1"/>
          <a:stretch/>
        </p:blipFill>
        <p:spPr>
          <a:xfrm>
            <a:off x="2819520" y="1371600"/>
            <a:ext cx="3022560" cy="340056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kellysmusicstudio.com/music-not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sing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z.about.com/d/miniatures/1/0/D/D/-/-/pi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loved pink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喜爱粉红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homepage.mac.com/pianos/piano_images/Grand_Pi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played the piano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弹钢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Ink 5"/>
          <p:cNvSpPr/>
          <p:nvPr/>
        </p:nvSpPr>
        <p:spPr>
          <a:xfrm>
            <a:off x="1886040" y="550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239" y="15280"/>
                </a:moveTo>
                <a:lnTo>
                  <a:pt x="5239" y="152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nternationalraspberry.org/three-raspberries-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raspber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aspber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her pig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她的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keetsa.com/blog/wp-content/uploads/2008/11/baby-pig.jpg"/>
          <p:cNvPicPr/>
          <p:nvPr/>
        </p:nvPicPr>
        <p:blipFill>
          <a:blip r:embed="rId1"/>
          <a:stretch/>
        </p:blipFill>
        <p:spPr>
          <a:xfrm>
            <a:off x="2514600" y="2362320"/>
            <a:ext cx="3753000" cy="267624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er do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她的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inPinTwiggy1.jpg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05612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all animal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所有的动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lsabey\Local Settings\Temporary Internet Files\Content.IE5\XSJY32GK\MCj02003510000[1].wmf"/>
          <p:cNvPicPr/>
          <p:nvPr/>
        </p:nvPicPr>
        <p:blipFill>
          <a:blip r:embed="rId1"/>
          <a:stretch/>
        </p:blipFill>
        <p:spPr>
          <a:xfrm>
            <a:off x="3660840" y="2662200"/>
            <a:ext cx="1822320" cy="153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lsabey\Local Settings\Temporary Internet Files\Content.IE5\XSJY32GK\MCj02003510000[1].wmf"/>
          <p:cNvPicPr/>
          <p:nvPr/>
        </p:nvPicPr>
        <p:blipFill>
          <a:blip r:embed="rId2"/>
          <a:stretch/>
        </p:blipFill>
        <p:spPr>
          <a:xfrm>
            <a:off x="5562720" y="1523880"/>
            <a:ext cx="2450880" cy="206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Documents and Settings\lsabey\Local Settings\Temporary Internet Files\Content.IE5\XSJY32GK\MCj02003510000[1].wmf"/>
          <p:cNvPicPr/>
          <p:nvPr/>
        </p:nvPicPr>
        <p:blipFill>
          <a:blip r:embed="rId3"/>
          <a:stretch/>
        </p:blipFill>
        <p:spPr>
          <a:xfrm>
            <a:off x="5943600" y="3886200"/>
            <a:ext cx="1822320" cy="153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Documents and Settings\lsabey\Local Settings\Temporary Internet Files\Content.IE5\FGJUL90C\MCj03438330000[1].wmf"/>
          <p:cNvPicPr/>
          <p:nvPr/>
        </p:nvPicPr>
        <p:blipFill>
          <a:blip r:embed="rId4"/>
          <a:stretch/>
        </p:blipFill>
        <p:spPr>
          <a:xfrm>
            <a:off x="3505320" y="4114800"/>
            <a:ext cx="1725480" cy="1386000"/>
          </a:xfrm>
          <a:prstGeom prst="rect">
            <a:avLst/>
          </a:prstGeom>
          <a:ln w="0">
            <a:noFill/>
          </a:ln>
        </p:spPr>
      </p:pic>
      <p:sp>
        <p:nvSpPr>
          <p:cNvPr id="73" name="Content Placeholder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lsabey\Local Settings\Temporary Internet Files\Content.IE5\FGJUL90C\MCj03438330000[1].wmf"/>
          <p:cNvPicPr/>
          <p:nvPr/>
        </p:nvPicPr>
        <p:blipFill>
          <a:blip r:embed="rId5"/>
          <a:stretch/>
        </p:blipFill>
        <p:spPr>
          <a:xfrm>
            <a:off x="1752480" y="4343400"/>
            <a:ext cx="1725840" cy="138600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6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3:59Z</dcterms:created>
  <dc:creator>itsuser</dc:creator>
  <dc:description/>
  <dc:language>en-US</dc:language>
  <cp:lastModifiedBy>itsuser</cp:lastModifiedBy>
  <dcterms:modified xsi:type="dcterms:W3CDTF">2009-05-05T17:17:08Z</dcterms:modified>
  <cp:revision>12</cp:revision>
  <dc:subject/>
  <dc:title>The Princess</dc:title>
</cp:coreProperties>
</file>